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59DB-31B2-475D-9A43-E47DB740D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4343-B89D-4D2D-8466-26151C079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94A5-EEE8-41CE-B94A-7AD333DFD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3498-EB8E-4488-8105-458FF706A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4871-3EDE-4B7B-BD77-24E6E4C99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467E-B63E-4139-B951-F57B3F896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E309-447F-40A4-AD97-A094A285B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0ADF-DE32-4CA1-AE4F-22F988322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8379-9689-4548-BBDD-9E412203C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D6B7-AD7E-4704-837B-D4937133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7014-52DA-4774-AC83-EFDD18C0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9CB5-1F30-4F3C-BBE2-1996D91C7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1FBC-BE65-478C-A943-4F3957658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Filtered Dive Positons 200304" descr=""/>
          <p:cNvPicPr/>
          <p:nvPr/>
        </p:nvPicPr>
        <p:blipFill>
          <a:blip r:embed="rId1"/>
          <a:stretch/>
        </p:blipFill>
        <p:spPr>
          <a:xfrm>
            <a:off x="5508720" y="216000"/>
            <a:ext cx="2604960" cy="3213000"/>
          </a:xfrm>
          <a:prstGeom prst="rect">
            <a:avLst/>
          </a:prstGeom>
          <a:ln w="0">
            <a:noFill/>
          </a:ln>
        </p:spPr>
      </p:pic>
      <p:pic>
        <p:nvPicPr>
          <p:cNvPr id="44" name="Filtered Dive Positons 200405" descr=""/>
          <p:cNvPicPr/>
          <p:nvPr/>
        </p:nvPicPr>
        <p:blipFill>
          <a:blip r:embed="rId2"/>
          <a:stretch/>
        </p:blipFill>
        <p:spPr>
          <a:xfrm>
            <a:off x="4500720" y="3429000"/>
            <a:ext cx="2346120" cy="2879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79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60" y="315360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New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0" y="579060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New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797520" y="3429000"/>
            <a:ext cx="2346480" cy="2879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6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85840" y="123840"/>
          <a:ext cx="4286160" cy="6734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5840" y="123840"/>
                    <a:ext cx="4286160" cy="673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8T23:59:18Z</dcterms:created>
  <dc:creator>Daniel P Costa</dc:creator>
  <dc:description/>
  <dc:language>en-US</dc:language>
  <cp:lastModifiedBy>Daniel P Costa</cp:lastModifiedBy>
  <dcterms:modified xsi:type="dcterms:W3CDTF">2006-11-29T00:01:27Z</dcterms:modified>
  <cp:revision>2</cp:revision>
  <dc:subject/>
  <dc:title>Slide 1</dc:title>
</cp:coreProperties>
</file>